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E32-9F08-484F-A3F8-49FC43CD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4D9-A605-4830-8495-58B892F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AAE-E08A-41D8-AB1B-FAC5406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F7E-6AC7-4203-BD6B-7B01D4F0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E18-5845-4BB3-AF61-4F16B33C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A5F-A429-454A-ABA9-DC4AE3CC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C3C-06F3-4428-A0FC-CF00B8FE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DE02-6B7B-4D20-A9B1-257F2364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8463-336B-4022-8833-4D5CCF9C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AFC-6683-4B22-BBC4-D73F107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E7B-5BB3-490B-8822-F706E25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90B-FD3A-4E53-8AC3-B7E0533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F0EE-FF4B-451A-8247-191C9211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85C-5033-4F97-95DD-8555F0F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5F9-03A1-4F1F-B0C1-43F9B25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B79D-EC71-4E1B-A3B4-724C60B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16D1-B210-48A5-BC6E-C6870417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9327-9412-48A8-B2C0-5B30D67D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8734-B475-4253-A151-9E531A50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B654-C008-4C38-B5C5-E251ECA9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829-7D7F-4542-B935-CFE6885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54B6-4B00-413C-885B-4D78F85A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F4A0-4437-4E5D-9ECA-A2FB675B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3237-2906-4233-8D05-0C2D5B1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5CA6-D37D-4782-BC31-5FA74B8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2B66-40F2-4EC1-AD49-C6E114A2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6F2B-F439-46D1-AC97-71257FC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2239-9AA7-4E17-9A57-D582D81E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203F-8C38-43C8-8F23-0A90F81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C110-8D99-495B-BC6F-80800AC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5AA3-7357-452D-B153-854BC8BE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1C1-D989-4472-BAE6-9CF948C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C53B-7356-4339-9801-5DC9E393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C93D5-8411-44CC-833F-D46552FB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FA28-40CB-44E4-AE37-82901C3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B712-D2A0-4BC3-8E0D-F2CB058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EA56-5A8C-44E4-A5D0-62533AD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CBCB-E457-42CB-8852-247A830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F890-1671-44E3-B474-6C3BD47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7BDB-2750-4B88-9121-C6BE5A3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838B-C545-424E-8560-66F955E4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407C-884B-4241-9BCD-D59A0E7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8CA-3307-4E0C-AB21-3EEAEA1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5EE8-B12F-49E8-9634-FB97C8E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6694-1A2B-46BA-99FB-6867B3F9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EB0A-ED6D-41F0-B30B-D342953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2EC-DB3B-4BD7-B418-1978111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C9B-721A-4CB2-8A69-FF0B45E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B3A1B79-8D3B-45B3-978C-B2CB1D30D65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46F0B1E-7573-40FD-8664-86222F43B2B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501C4A5-0C82-4FF6-99B8-DCD59C67647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40D239F-4AF1-489F-B618-45E9D4DCAB8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41360" y="126792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4400" spc="-1" strike="noStrike">
                <a:solidFill>
                  <a:srgbClr val="374c81"/>
                </a:solidFill>
                <a:latin typeface="Century Gothic"/>
              </a:rPr>
              <a:t>Co to za rana?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rcRect l="6606" t="0" r="23427" b="0"/>
          <a:stretch/>
        </p:blipFill>
        <p:spPr>
          <a:xfrm>
            <a:off x="406440" y="2276640"/>
            <a:ext cx="273528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2"/>
          <p:cNvSpPr/>
          <p:nvPr/>
        </p:nvSpPr>
        <p:spPr>
          <a:xfrm>
            <a:off x="155736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1" name="Obraz 1" descr="Plik:Selfinjury.jpg"/>
          <p:cNvPicPr/>
          <p:nvPr/>
        </p:nvPicPr>
        <p:blipFill>
          <a:blip r:embed="rId3"/>
          <a:srcRect l="0" t="0" r="25650" b="0"/>
          <a:stretch/>
        </p:blipFill>
        <p:spPr>
          <a:xfrm>
            <a:off x="3286080" y="2274840"/>
            <a:ext cx="2700360" cy="27288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7"/>
          <p:cNvSpPr/>
          <p:nvPr/>
        </p:nvSpPr>
        <p:spPr>
          <a:xfrm>
            <a:off x="442116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3" name="Obraz 5" descr="http://1.bp.blogspot.com/-dtdwTNol-o4/UC-YqNsLdhI/AAAAAAAAALo/SPz2x9ppqgc/s320/180820121041.jpg"/>
          <p:cNvPicPr/>
          <p:nvPr/>
        </p:nvPicPr>
        <p:blipFill>
          <a:blip r:embed="rId4"/>
          <a:srcRect l="7204" t="0" r="25629" b="0"/>
          <a:stretch/>
        </p:blipFill>
        <p:spPr>
          <a:xfrm>
            <a:off x="6130800" y="2274840"/>
            <a:ext cx="3245040" cy="272880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9"/>
          <p:cNvSpPr/>
          <p:nvPr/>
        </p:nvSpPr>
        <p:spPr>
          <a:xfrm>
            <a:off x="753732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5" name="Obraz 3" descr="http://upload.wikimedia.org/wikipedia/commons/thumb/7/71/Footpuncture.JPG/576px-Footpuncture.JPG"/>
          <p:cNvPicPr/>
          <p:nvPr/>
        </p:nvPicPr>
        <p:blipFill>
          <a:blip r:embed="rId5"/>
          <a:srcRect l="16732" t="0" r="3580" b="29289"/>
          <a:stretch/>
        </p:blipFill>
        <p:spPr>
          <a:xfrm>
            <a:off x="9529920" y="2274840"/>
            <a:ext cx="2325600" cy="273852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11"/>
          <p:cNvSpPr/>
          <p:nvPr/>
        </p:nvSpPr>
        <p:spPr>
          <a:xfrm>
            <a:off x="1047600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846440" y="1773000"/>
            <a:ext cx="9283680" cy="934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31000"/>
          </a:bodyPr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postrzałow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cię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szarpan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kłu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2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